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49B-D328-4A70-BFD4-277F0ED8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67D-D71A-4C83-9628-2911B8D2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749-A9BE-45A7-933F-D9EC4094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C68-075E-4DAD-BC8D-3998AF53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08D-E95D-4949-89B7-A49DAE60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2EA-AE6C-4E09-8DE9-94EFB443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EE6-AC5D-40DC-999E-E52FF07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252-F79A-4E43-8B57-D3B4387A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B19-ECBF-4418-A979-A450BB0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E3F-00C8-402A-8AF9-305CAE46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490-95EB-4839-A558-8F6A2A1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50F-1398-4970-8783-8C541BB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2BD4-FE67-4FAB-8BE5-7420415421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er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488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4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8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712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268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075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43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1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498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9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167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iodarona 300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22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52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9280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9482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8:32Z</dcterms:created>
  <dc:creator>OSCAR&amp;MARÍA</dc:creator>
  <dc:description/>
  <dc:language>en-US</dc:language>
  <cp:lastModifiedBy>OSCAR&amp;MARÍA</cp:lastModifiedBy>
  <dcterms:modified xsi:type="dcterms:W3CDTF">2007-03-09T16:03:13Z</dcterms:modified>
  <cp:revision>2</cp:revision>
  <dc:subject/>
  <dc:title>Diapositiva 1</dc:title>
</cp:coreProperties>
</file>